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6E481-92E8-4876-A7E6-4D32E8E8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67118-61C9-4275-929D-FD2692EC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5BDCA-8549-4FB2-9D8D-03372CC8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701B4-95E9-416F-84A3-C47928D7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5C84-944A-41DC-B436-EE67A6AD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231C-DF09-40A8-887F-79C57E5A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BBC8-724E-4269-B55C-12BC9056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75EB-C26A-472C-8E9F-3C2314D4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AF9F-34FF-4C45-881C-7165F3F8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8E51-6359-4D45-8632-FD2DECB6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B274-C6B2-40C5-AA4A-E4B73AC3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E9CA9-51D0-4197-B584-1E2AD194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6B82-4859-465A-87EA-DB2089DD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9728-9741-4A0C-8333-2822BF1A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6351-4D2E-4D40-B88E-88BD4FBA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AD91-E525-4322-9851-42AC84A9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0CDA-2062-4F1C-A399-B5239405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95009-DFC3-4C59-B2C8-5B51BFEE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1F877-CB05-49A8-8826-A86C6EEB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07C9C-B81E-4FCC-A369-0350576A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8642E-779B-4416-B05D-F7BDD2A3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F0FBB-66CF-46DD-B346-18E70BDC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584E5-D668-4AFC-969D-65C0734B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80B75-E15C-467C-A037-3227712A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a1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DC75-2072-4653-A343-3BFE28252CA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a1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35E7-2246-41AA-98B1-27C9566CA60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xpomo.com/ruskolan/images/evg-04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8"/>
          <p:cNvSpPr/>
          <p:nvPr/>
        </p:nvSpPr>
        <p:spPr>
          <a:xfrm>
            <a:off x="324000" y="1413000"/>
            <a:ext cx="864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Методы изучения генетики человека: близнецовый метод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826920" y="404640"/>
            <a:ext cx="7705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924360" y="623736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5219640" y="3284640"/>
            <a:ext cx="36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6" descr="1169651752_together02"/>
          <p:cNvPicPr/>
          <p:nvPr/>
        </p:nvPicPr>
        <p:blipFill>
          <a:blip r:embed="rId1"/>
          <a:stretch/>
        </p:blipFill>
        <p:spPr>
          <a:xfrm>
            <a:off x="250920" y="393372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1168632688_baby09"/>
          <p:cNvPicPr/>
          <p:nvPr/>
        </p:nvPicPr>
        <p:blipFill>
          <a:blip r:embed="rId2"/>
          <a:stretch/>
        </p:blipFill>
        <p:spPr>
          <a:xfrm>
            <a:off x="2928960" y="4500720"/>
            <a:ext cx="2639880" cy="198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1169578881_130306elgortsm"/>
          <p:cNvPicPr/>
          <p:nvPr/>
        </p:nvPicPr>
        <p:blipFill>
          <a:blip r:embed="rId3"/>
          <a:stretch/>
        </p:blipFill>
        <p:spPr>
          <a:xfrm>
            <a:off x="5429160" y="3929040"/>
            <a:ext cx="1785960" cy="2446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епень сходства (конкордантность) по ряду заболеваний у близнецов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8360" y="1773360"/>
          <a:ext cx="8280360" cy="3816360"/>
        </p:xfrm>
        <a:graphic>
          <a:graphicData uri="http://schemas.openxmlformats.org/drawingml/2006/table">
            <a:tbl>
              <a:tblPr/>
              <a:tblGrid>
                <a:gridCol w="3189240"/>
                <a:gridCol w="1562040"/>
                <a:gridCol w="1663920"/>
                <a:gridCol w="1865160"/>
              </a:tblGrid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, контролируемые большим числом генов и зависящие от негенетических факто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та (вероятность) появления сходства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ледуемость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яйце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яйце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ственная отстал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зоф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ный диаб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илеп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тупность (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198"/>
          <p:cNvSpPr/>
          <p:nvPr/>
        </p:nvSpPr>
        <p:spPr>
          <a:xfrm>
            <a:off x="0" y="506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Формула Хольцинг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79280" y="975600"/>
            <a:ext cx="89647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 = (% сходства ОБ - % сходства ДБ) / (100 - % сходства ДБ),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де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коэффицент наследственности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ОБ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 однояйцевые близнецы (конкордантность ОБ)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ДБ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двуяйцевые близнецы (конкордантность ДБ)</a:t>
            </a: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 = 1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признак полностью определяется наследственным компоненто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 = 0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признак определяется влиянием сред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 = близкий к 0,5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признак определяется примерно одинаковым влиянием наследственности и сре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MCj02990210000[1]"/>
          <p:cNvPicPr/>
          <p:nvPr/>
        </p:nvPicPr>
        <p:blipFill>
          <a:blip r:embed="rId1"/>
          <a:stretch/>
        </p:blipFill>
        <p:spPr>
          <a:xfrm>
            <a:off x="7236000" y="5734080"/>
            <a:ext cx="1809720" cy="9666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539640" y="836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кордантность монозиготных близнецов по массе тела составляет 80%, а дизиготных – 30%. Каково соотношение наследственных и средовых факторов в формировании призна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24000" y="2852640"/>
            <a:ext cx="8569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формуле Хольцингера рассчитаем коэффициент наследуем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 = (% сходства ОБ - % сходства ДБ) / (100 - % сходства ДБ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 = (80%  - 30%) / (100% - 30%)= 0,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Так как коэффициент наследуемости равен 0,71, то в формировании признака большую роль играет геноти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539640" y="836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кордантность монозиготных близнецов по росту составляет 65%, а дизиготных – 34%. Каково соотношение наследственных и средовых факторов в формировании призна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24000" y="2852640"/>
            <a:ext cx="8569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формуле Хольцингера рассчитаем коэффициент наследуем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 = (% сходства ОБ - % сходства ДБ) / (100 - % сходства ДБ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 = (65%  - 34%) / (100% - 34%)= 0,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Так как коэффициент наследуемости равен 0,20, то в формировании признака большую роль играет ср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зучить сущность и значение одного из основных методов антропогенетики: близнецового 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аучиться решать задачи с использованием формулы Хольцингера  (для тех, кто обучается на повышенном уров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Цели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1269444741_hku"/>
          <p:cNvPicPr/>
          <p:nvPr/>
        </p:nvPicPr>
        <p:blipFill>
          <a:blip r:embed="rId1"/>
          <a:stretch/>
        </p:blipFill>
        <p:spPr>
          <a:xfrm>
            <a:off x="5364000" y="4221000"/>
            <a:ext cx="3600720" cy="24735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</p:spTree>
  </p:cSld>
  <p:transition spd="med">
    <p:diamond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опросы для обсуждения на «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55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йте определение биологическим понятиям: близнецы, дизиготные и монозиготные близнецы, сиамские близнецы, конкордантность, дискордант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 чем заключается близнецовый метод исследования генетики человека? Кто впервые применил этот метод для изучения генетики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аково зна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изнецового мет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изучения гене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article-1288391-0A2164C3000005DC-372_634x372_popup"/>
          <p:cNvPicPr/>
          <p:nvPr/>
        </p:nvPicPr>
        <p:blipFill>
          <a:blip r:embed="rId1"/>
          <a:stretch/>
        </p:blipFill>
        <p:spPr>
          <a:xfrm>
            <a:off x="4286160" y="3786120"/>
            <a:ext cx="4465800" cy="2824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 spd="med">
    <p:diamond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онятия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4264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изнецы – одновременно родившиеся д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зиготные близнецы – развиваются из 2-х разных яйце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зиготные близнецы - развиваются из 1 яйцекл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амские близнецы – сросшиеся близне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ордантность – наличие признака у обоих близне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ордантность – наличие признака и одного из близне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1192032266_kopie_e4"/>
          <p:cNvPicPr/>
          <p:nvPr/>
        </p:nvPicPr>
        <p:blipFill>
          <a:blip r:embed="rId1"/>
          <a:stretch/>
        </p:blipFill>
        <p:spPr>
          <a:xfrm>
            <a:off x="7510320" y="4981680"/>
            <a:ext cx="1633680" cy="1876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6siam"/>
          <p:cNvPicPr/>
          <p:nvPr/>
        </p:nvPicPr>
        <p:blipFill>
          <a:blip r:embed="rId2"/>
          <a:stretch/>
        </p:blipFill>
        <p:spPr>
          <a:xfrm>
            <a:off x="5715000" y="5000760"/>
            <a:ext cx="1666800" cy="1857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225294365"/>
          <p:cNvPicPr/>
          <p:nvPr/>
        </p:nvPicPr>
        <p:blipFill>
          <a:blip r:embed="rId3"/>
          <a:stretch/>
        </p:blipFill>
        <p:spPr>
          <a:xfrm>
            <a:off x="4071960" y="5070600"/>
            <a:ext cx="1428840" cy="1787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лизнецов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1257159055_1"/>
          <p:cNvPicPr/>
          <p:nvPr/>
        </p:nvPicPr>
        <p:blipFill>
          <a:blip r:embed="rId1"/>
          <a:stretch/>
        </p:blipFill>
        <p:spPr>
          <a:xfrm>
            <a:off x="250920" y="1176480"/>
            <a:ext cx="4321080" cy="40510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26" name="Text Box 7"/>
          <p:cNvSpPr/>
          <p:nvPr/>
        </p:nvSpPr>
        <p:spPr>
          <a:xfrm>
            <a:off x="324000" y="558972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Монозиготные близнецы (однояйцев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7" descr="79_3"/>
          <p:cNvPicPr/>
          <p:nvPr/>
        </p:nvPicPr>
        <p:blipFill>
          <a:blip r:embed="rId2"/>
          <a:stretch/>
        </p:blipFill>
        <p:spPr>
          <a:xfrm>
            <a:off x="5076720" y="1700280"/>
            <a:ext cx="2808360" cy="216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7" descr="79_3"/>
          <p:cNvPicPr/>
          <p:nvPr/>
        </p:nvPicPr>
        <p:blipFill>
          <a:blip r:embed="rId3"/>
          <a:stretch/>
        </p:blipFill>
        <p:spPr>
          <a:xfrm>
            <a:off x="4886280" y="1714680"/>
            <a:ext cx="3992760" cy="3071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6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6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лизнецов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1242648442_2-twins"/>
          <p:cNvPicPr/>
          <p:nvPr/>
        </p:nvPicPr>
        <p:blipFill>
          <a:blip r:embed="rId1"/>
          <a:stretch/>
        </p:blipFill>
        <p:spPr>
          <a:xfrm>
            <a:off x="428760" y="1143000"/>
            <a:ext cx="3998880" cy="46101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31" name="Rectangle 8"/>
          <p:cNvSpPr/>
          <p:nvPr/>
        </p:nvSpPr>
        <p:spPr>
          <a:xfrm>
            <a:off x="357120" y="585792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Дизиготные близнецы (двуяйцев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8" descr="79_4"/>
          <p:cNvPicPr/>
          <p:nvPr/>
        </p:nvPicPr>
        <p:blipFill>
          <a:blip r:embed="rId2"/>
          <a:stretch/>
        </p:blipFill>
        <p:spPr>
          <a:xfrm>
            <a:off x="4643280" y="1928880"/>
            <a:ext cx="423864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6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6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143680" y="999720"/>
            <a:ext cx="354312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.Гальтон – основатель близнецового метод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http://www.xpomo.com/ruskolan/images/evg-0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785880"/>
            <a:ext cx="4365360" cy="5307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лизнецовый метод позволяет устано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лияние среды на реализацию гено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клад среды и генотипа в развитие данного призн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MCj02990210000[1]"/>
          <p:cNvPicPr/>
          <p:nvPr/>
        </p:nvPicPr>
        <p:blipFill>
          <a:blip r:embed="rId1"/>
          <a:stretch/>
        </p:blipFill>
        <p:spPr>
          <a:xfrm>
            <a:off x="7236000" y="5734080"/>
            <a:ext cx="1809720" cy="966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6328a501ea5343129228471263961538"/>
          <p:cNvPicPr/>
          <p:nvPr/>
        </p:nvPicPr>
        <p:blipFill>
          <a:blip r:embed="rId2"/>
          <a:stretch/>
        </p:blipFill>
        <p:spPr>
          <a:xfrm>
            <a:off x="1476360" y="2492280"/>
            <a:ext cx="5432400" cy="4075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 spd="med">
    <p:diamond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епень различия (дискордантность) по ряду нейтральных признаков у близне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341360"/>
          <a:ext cx="8642160" cy="5303880"/>
        </p:xfrm>
        <a:graphic>
          <a:graphicData uri="http://schemas.openxmlformats.org/drawingml/2006/table">
            <a:tbl>
              <a:tblPr/>
              <a:tblGrid>
                <a:gridCol w="3517920"/>
                <a:gridCol w="1571400"/>
                <a:gridCol w="1676520"/>
                <a:gridCol w="1876320"/>
              </a:tblGrid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знаки, контролируемые небольшим числом ген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ота (вероятность) появления различий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ледуемость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днояйце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нояйце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вет гл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уш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вет вол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пиллярные ли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≈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иохимические при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 0 до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вет кож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вол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бров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н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г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diamond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57:50Z</dcterms:created>
  <dc:creator>Дороненкова Н.Ю.</dc:creator>
  <dc:description/>
  <dc:language>en-US</dc:language>
  <cp:lastModifiedBy>Admin</cp:lastModifiedBy>
  <dcterms:modified xsi:type="dcterms:W3CDTF">2012-10-23T18:46:44Z</dcterms:modified>
  <cp:revision>38</cp:revision>
  <dc:subject/>
  <dc:title>Урок Методы генетики человека:</dc:title>
</cp:coreProperties>
</file>